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C6A2-9E86-4138-BAB6-A6C6FC586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74170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78920" y="4055400"/>
            <a:ext cx="74170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7FB4-5670-4644-8363-420DD8CB8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78920" y="40554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979800" y="40554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D64E-876A-4418-A4BC-BEBE7B181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686680" y="11970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194080" y="11970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78920" y="40554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686680" y="40554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194080" y="40554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2C5F-83AF-4D11-9B3B-3DA2C6431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78920" y="1197000"/>
            <a:ext cx="7417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74170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7398000" cy="33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78920" y="40554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8920" y="1197000"/>
            <a:ext cx="7417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C6C2-1E1D-44CD-8DC8-340BA1FD7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979800" y="40554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78920" y="4055400"/>
            <a:ext cx="74170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74170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78920" y="4055400"/>
            <a:ext cx="74170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78920" y="40554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979800" y="40554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686680" y="11970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194080" y="11970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78920" y="40554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686680" y="40554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194080" y="40554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74170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1405-83AA-4F6C-8768-59C0A8F24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61B1-505B-4590-8A63-446EB5D55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DD96-B999-4F00-A36F-BCCC6F1CA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7398000" cy="33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6452-3EEB-4979-8B7A-5781B901E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8920" y="40554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8457-C95E-4470-A8E3-027ACDB1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979800" y="40554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5EB4-9654-4C3D-8C4F-E062D5B4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78920" y="4055400"/>
            <a:ext cx="74170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EC3C-6065-430E-9BC9-4A0FC179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6.jpeg"/><Relationship Id="rId32" Type="http://schemas.openxmlformats.org/officeDocument/2006/relationships/image" Target="../media/image7.jpeg"/><Relationship Id="rId33" Type="http://schemas.openxmlformats.org/officeDocument/2006/relationships/slideLayout" Target="../slideLayouts/slideLayout13.xml"/><Relationship Id="rId34" Type="http://schemas.openxmlformats.org/officeDocument/2006/relationships/slideLayout" Target="../slideLayouts/slideLayout14.xml"/><Relationship Id="rId35" Type="http://schemas.openxmlformats.org/officeDocument/2006/relationships/slideLayout" Target="../slideLayouts/slideLayout15.xml"/><Relationship Id="rId36" Type="http://schemas.openxmlformats.org/officeDocument/2006/relationships/slideLayout" Target="../slideLayouts/slideLayout16.xml"/><Relationship Id="rId37" Type="http://schemas.openxmlformats.org/officeDocument/2006/relationships/slideLayout" Target="../slideLayouts/slideLayout17.xml"/><Relationship Id="rId38" Type="http://schemas.openxmlformats.org/officeDocument/2006/relationships/slideLayout" Target="../slideLayouts/slideLayout18.xml"/><Relationship Id="rId39" Type="http://schemas.openxmlformats.org/officeDocument/2006/relationships/slideLayout" Target="../slideLayouts/slideLayout19.xml"/><Relationship Id="rId40" Type="http://schemas.openxmlformats.org/officeDocument/2006/relationships/slideLayout" Target="../slideLayouts/slideLayout20.xml"/><Relationship Id="rId41" Type="http://schemas.openxmlformats.org/officeDocument/2006/relationships/slideLayout" Target="../slideLayouts/slideLayout21.xml"/><Relationship Id="rId42" Type="http://schemas.openxmlformats.org/officeDocument/2006/relationships/slideLayout" Target="../slideLayouts/slideLayout22.xml"/><Relationship Id="rId43" Type="http://schemas.openxmlformats.org/officeDocument/2006/relationships/slideLayout" Target="../slideLayouts/slideLayout23.xml"/><Relationship Id="rId4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B8BDC-64B7-430F-9729-24C7783A3C75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Kristen ITC"/>
              </a:rPr>
              <a:t>Click to edit the title text format</a:t>
            </a: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1"/>
          <a:stretch/>
        </p:blipFill>
        <p:spPr>
          <a:xfrm>
            <a:off x="7885080" y="0"/>
            <a:ext cx="1258920" cy="6858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2"/>
          <a:stretch/>
        </p:blipFill>
        <p:spPr>
          <a:xfrm>
            <a:off x="8028000" y="5157720"/>
            <a:ext cx="950760" cy="15001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 rot="5400000">
            <a:off x="6590160" y="205632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f1311"/>
                </a:solidFill>
                <a:latin typeface="Kristen ITC"/>
              </a:rPr>
              <a:t>L’Etranger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Kristen ITC"/>
              </a:rPr>
              <a:t>Click to edit the outline text format</a:t>
            </a: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3"/>
    <p:sldLayoutId id="2147483663" r:id="rId34"/>
    <p:sldLayoutId id="2147483664" r:id="rId35"/>
    <p:sldLayoutId id="2147483665" r:id="rId36"/>
    <p:sldLayoutId id="2147483666" r:id="rId37"/>
    <p:sldLayoutId id="2147483667" r:id="rId38"/>
    <p:sldLayoutId id="2147483668" r:id="rId39"/>
    <p:sldLayoutId id="2147483669" r:id="rId40"/>
    <p:sldLayoutId id="2147483670" r:id="rId41"/>
    <p:sldLayoutId id="2147483671" r:id="rId42"/>
    <p:sldLayoutId id="2147483672" r:id="rId43"/>
    <p:sldLayoutId id="2147483673" r:id="rId4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7d47d"/>
                </a:solidFill>
                <a:latin typeface="Kristen ITC"/>
              </a:rPr>
              <a:t>Meursault – de l’action à la pensée</a:t>
            </a:r>
            <a:endParaRPr b="0" lang="en-US" sz="32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93" name=""/>
          <p:cNvSpPr/>
          <p:nvPr/>
        </p:nvSpPr>
        <p:spPr>
          <a:xfrm>
            <a:off x="395280" y="1916280"/>
            <a:ext cx="712944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2f131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Comic Sans MS"/>
              </a:rPr>
              <a:t>How has prison changed Meursault’s perspective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2f131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Comic Sans MS"/>
              </a:rPr>
              <a:t>How does Meursault’s narrative change in part 2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2f131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Comic Sans MS"/>
              </a:rPr>
              <a:t>Metaphor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2f131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Comic Sans MS"/>
              </a:rPr>
              <a:t>‘</a:t>
            </a:r>
            <a:r>
              <a:rPr b="0" lang="en-GB" sz="2400" spc="-1" strike="noStrike">
                <a:solidFill>
                  <a:srgbClr val="2f1311"/>
                </a:solidFill>
                <a:latin typeface="Comic Sans MS"/>
              </a:rPr>
              <a:t>Structured narrative’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79280" y="40608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7d47d"/>
                </a:solidFill>
                <a:latin typeface="Kristen ITC"/>
              </a:rPr>
              <a:t>Meursault aux assizes – absence et présence</a:t>
            </a:r>
            <a:endParaRPr b="0" lang="en-US" sz="32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95" name=""/>
          <p:cNvSpPr/>
          <p:nvPr/>
        </p:nvSpPr>
        <p:spPr>
          <a:xfrm>
            <a:off x="395280" y="1916280"/>
            <a:ext cx="7129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2f131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Comic Sans MS"/>
              </a:rPr>
              <a:t>What are the key events of the trial that Meursault </a:t>
            </a:r>
            <a:r>
              <a:rPr b="1" lang="en-GB" sz="2400" spc="-1" strike="noStrike">
                <a:solidFill>
                  <a:srgbClr val="2f1311"/>
                </a:solidFill>
                <a:latin typeface="Comic Sans MS"/>
              </a:rPr>
              <a:t>does</a:t>
            </a:r>
            <a:r>
              <a:rPr b="0" lang="en-GB" sz="2400" spc="-1" strike="noStrike">
                <a:solidFill>
                  <a:srgbClr val="2f1311"/>
                </a:solidFill>
                <a:latin typeface="Comic Sans MS"/>
              </a:rPr>
              <a:t> describe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2f131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Comic Sans MS"/>
              </a:rPr>
              <a:t>At which moments does he ‘drift out’?  Why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9280" y="40608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Kristen ITC"/>
              </a:rPr>
              <a:t>Le procureur</a:t>
            </a: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1916280"/>
            <a:ext cx="71294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2f131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Comic Sans MS"/>
              </a:rPr>
              <a:t>What are the key elements of the ‘procureur’s’ argument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2f131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Comic Sans MS"/>
              </a:rPr>
              <a:t>What is Meursault’s reaction to this line of argument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564000" y="406080"/>
            <a:ext cx="40132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Kristen ITC"/>
              </a:rPr>
              <a:t>La justice</a:t>
            </a: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99" name=""/>
          <p:cNvSpPr/>
          <p:nvPr/>
        </p:nvSpPr>
        <p:spPr>
          <a:xfrm>
            <a:off x="395280" y="1916280"/>
            <a:ext cx="7129440" cy="38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f6f6"/>
                </a:solidFill>
                <a:latin typeface="Comic Sans MS"/>
              </a:rPr>
              <a:t>« </a:t>
            </a:r>
            <a:r>
              <a:rPr b="0" lang="fr-FR" sz="2800" spc="-1" strike="noStrike">
                <a:solidFill>
                  <a:srgbClr val="fcf6f6"/>
                </a:solidFill>
                <a:latin typeface="Comic Sans MS"/>
              </a:rPr>
              <a:t>Nous voyons triompher l’injustice, l’erreur des reconstitutions d’une justice qui cherche la cohérence là où régnait hasard et chaos.  Toute la stratégie du procureur vise à cette démonstration »   (p61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cf6f6"/>
                </a:solidFill>
                <a:latin typeface="Comic Sans MS"/>
              </a:rPr>
              <a:t>L’Etranger – Balises – Pierre Sauvag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6570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4T12:37:07Z</dcterms:created>
  <dc:creator>Steve Badger</dc:creator>
  <dc:description/>
  <dc:language>en-US</dc:language>
  <cp:lastModifiedBy>badgers</cp:lastModifiedBy>
  <dcterms:modified xsi:type="dcterms:W3CDTF">2006-10-05T11:06:33Z</dcterms:modified>
  <cp:revision>7</cp:revision>
  <dc:subject/>
  <dc:title>Les thèmes du récit</dc:title>
</cp:coreProperties>
</file>